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64C3-772E-4FFA-AF91-4205844C8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0527-A5E2-45B5-AE43-9D32BC36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3E31-C5FC-4E30-A2EF-05ABCB5E1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ED63-C5C6-430D-9F80-67E758FF0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CE8A-444F-4A76-8A7B-EB3E7BD3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47F4-3106-4103-82E2-150CDB62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B2E0-EE91-4BE3-A4F6-754872AC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CDDA-69DE-4F61-84FF-6F999227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D0AB-3BBB-45FA-80D7-E5665D95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5771-877C-436B-A9D9-A5B32792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A3B2-8F9A-47DB-B782-5A371CF4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F4D2-68A1-412A-BFCF-CEA528C4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55A1-1D5F-4C25-86B9-5BB502ABC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P3 Chp. 3 Vocabulary</a:t>
            </a:r>
            <a:br>
              <a:rPr sz="5500"/>
            </a:b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A Primera Vista #1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. 1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la vitamin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2362320" y="3809880"/>
            <a:ext cx="403848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aunq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pite, even wh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la alergi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2819520" y="3624120"/>
            <a:ext cx="34290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el antibiótic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1600200" y="3657600"/>
            <a:ext cx="5403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la aspirin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3429000" y="38098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estar resfriado, -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3429000" y="3124080"/>
            <a:ext cx="203184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estornuda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3619440" y="3390840"/>
            <a:ext cx="23241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la fiebr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2895480" y="3505320"/>
            <a:ext cx="341964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la grip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2438280" y="3048120"/>
            <a:ext cx="44769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el jarab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2438280" y="3286080"/>
            <a:ext cx="312444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Los alimentos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2438280" y="3630600"/>
            <a:ext cx="38102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oser (la tos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2666880" y="3790800"/>
            <a:ext cx="36831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evita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2743200" y="3886200"/>
            <a:ext cx="345456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altar (una comida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2644920" y="2362320"/>
            <a:ext cx="38541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oma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1752480" y="3855960"/>
            <a:ext cx="2667240" cy="1812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5054760" y="3641760"/>
            <a:ext cx="208260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La varicel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3048120" y="3610080"/>
            <a:ext cx="304776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La radiografí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3200400" y="3352680"/>
            <a:ext cx="24271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Poner la inyecció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3200400" y="3751200"/>
            <a:ext cx="274320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Quejarse d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2666880" y="3657600"/>
            <a:ext cx="350532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Recetar ( la receta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" descr=""/>
          <p:cNvPicPr/>
          <p:nvPr/>
        </p:nvPicPr>
        <p:blipFill>
          <a:blip r:embed="rId1"/>
          <a:stretch/>
        </p:blipFill>
        <p:spPr>
          <a:xfrm>
            <a:off x="3124080" y="3429000"/>
            <a:ext cx="252108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aerse de sueñ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3095640" y="3048120"/>
            <a:ext cx="295272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la comida basur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2590920" y="3200400"/>
            <a:ext cx="3467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uda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3048120" y="3352680"/>
            <a:ext cx="252396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2590920" y="3200400"/>
            <a:ext cx="3467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3200400" y="3276720"/>
            <a:ext cx="255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2590920" y="3505320"/>
            <a:ext cx="350496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354040" cy="35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2971800" y="351000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2209680" y="2895480"/>
            <a:ext cx="3159360" cy="32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" descr=""/>
          <p:cNvPicPr/>
          <p:nvPr/>
        </p:nvPicPr>
        <p:blipFill>
          <a:blip r:embed="rId1"/>
          <a:stretch/>
        </p:blipFill>
        <p:spPr>
          <a:xfrm>
            <a:off x="2971800" y="3276720"/>
            <a:ext cx="33526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1" descr=""/>
          <p:cNvPicPr/>
          <p:nvPr/>
        </p:nvPicPr>
        <p:blipFill>
          <a:blip r:embed="rId1"/>
          <a:stretch/>
        </p:blipFill>
        <p:spPr>
          <a:xfrm>
            <a:off x="2362320" y="3809880"/>
            <a:ext cx="403848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476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" descr=""/>
          <p:cNvPicPr/>
          <p:nvPr/>
        </p:nvPicPr>
        <p:blipFill>
          <a:blip r:embed="rId1"/>
          <a:stretch/>
        </p:blipFill>
        <p:spPr>
          <a:xfrm>
            <a:off x="2819520" y="3624120"/>
            <a:ext cx="34290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la diet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3200400" y="3276720"/>
            <a:ext cx="255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1" descr=""/>
          <p:cNvPicPr/>
          <p:nvPr/>
        </p:nvPicPr>
        <p:blipFill>
          <a:blip r:embed="rId1"/>
          <a:stretch/>
        </p:blipFill>
        <p:spPr>
          <a:xfrm>
            <a:off x="1600200" y="3657600"/>
            <a:ext cx="5403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3429000" y="38098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1" descr=""/>
          <p:cNvPicPr/>
          <p:nvPr/>
        </p:nvPicPr>
        <p:blipFill>
          <a:blip r:embed="rId1"/>
          <a:stretch/>
        </p:blipFill>
        <p:spPr>
          <a:xfrm>
            <a:off x="3429000" y="3124080"/>
            <a:ext cx="203184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1" descr=""/>
          <p:cNvPicPr/>
          <p:nvPr/>
        </p:nvPicPr>
        <p:blipFill>
          <a:blip r:embed="rId1"/>
          <a:stretch/>
        </p:blipFill>
        <p:spPr>
          <a:xfrm>
            <a:off x="3619440" y="3390840"/>
            <a:ext cx="23241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1" descr=""/>
          <p:cNvPicPr/>
          <p:nvPr/>
        </p:nvPicPr>
        <p:blipFill>
          <a:blip r:embed="rId1"/>
          <a:stretch/>
        </p:blipFill>
        <p:spPr>
          <a:xfrm>
            <a:off x="2895480" y="3505320"/>
            <a:ext cx="341964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2438280" y="3048120"/>
            <a:ext cx="44769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1" descr=""/>
          <p:cNvPicPr/>
          <p:nvPr/>
        </p:nvPicPr>
        <p:blipFill>
          <a:blip r:embed="rId1"/>
          <a:stretch/>
        </p:blipFill>
        <p:spPr>
          <a:xfrm>
            <a:off x="2438280" y="3286080"/>
            <a:ext cx="312444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1" descr=""/>
          <p:cNvPicPr/>
          <p:nvPr/>
        </p:nvPicPr>
        <p:blipFill>
          <a:blip r:embed="rId1"/>
          <a:stretch/>
        </p:blipFill>
        <p:spPr>
          <a:xfrm>
            <a:off x="2666880" y="3790800"/>
            <a:ext cx="36831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1" descr=""/>
          <p:cNvPicPr/>
          <p:nvPr/>
        </p:nvPicPr>
        <p:blipFill>
          <a:blip r:embed="rId1"/>
          <a:stretch/>
        </p:blipFill>
        <p:spPr>
          <a:xfrm>
            <a:off x="2743200" y="3886200"/>
            <a:ext cx="345456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1" descr=""/>
          <p:cNvPicPr/>
          <p:nvPr/>
        </p:nvPicPr>
        <p:blipFill>
          <a:blip r:embed="rId1"/>
          <a:stretch/>
        </p:blipFill>
        <p:spPr>
          <a:xfrm>
            <a:off x="2644920" y="2362320"/>
            <a:ext cx="38541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la energí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2590920" y="3505320"/>
            <a:ext cx="350496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1" descr=""/>
          <p:cNvPicPr/>
          <p:nvPr/>
        </p:nvPicPr>
        <p:blipFill>
          <a:blip r:embed="rId1"/>
          <a:stretch/>
        </p:blipFill>
        <p:spPr>
          <a:xfrm>
            <a:off x="1752480" y="3855960"/>
            <a:ext cx="2667240" cy="1812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"/>
          <p:cNvPicPr/>
          <p:nvPr/>
        </p:nvPicPr>
        <p:blipFill>
          <a:blip r:embed="rId2"/>
          <a:stretch/>
        </p:blipFill>
        <p:spPr>
          <a:xfrm>
            <a:off x="5054760" y="3641760"/>
            <a:ext cx="208260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048120" y="3610080"/>
            <a:ext cx="304776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28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1" descr=""/>
          <p:cNvPicPr/>
          <p:nvPr/>
        </p:nvPicPr>
        <p:blipFill>
          <a:blip r:embed="rId1"/>
          <a:stretch/>
        </p:blipFill>
        <p:spPr>
          <a:xfrm>
            <a:off x="3200400" y="3352680"/>
            <a:ext cx="24271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1" descr=""/>
          <p:cNvPicPr/>
          <p:nvPr/>
        </p:nvPicPr>
        <p:blipFill>
          <a:blip r:embed="rId1"/>
          <a:stretch/>
        </p:blipFill>
        <p:spPr>
          <a:xfrm>
            <a:off x="3200400" y="3751200"/>
            <a:ext cx="274320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1" descr=""/>
          <p:cNvPicPr/>
          <p:nvPr/>
        </p:nvPicPr>
        <p:blipFill>
          <a:blip r:embed="rId1"/>
          <a:stretch/>
        </p:blipFill>
        <p:spPr>
          <a:xfrm>
            <a:off x="2666880" y="3657600"/>
            <a:ext cx="350532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1" descr=""/>
          <p:cNvPicPr/>
          <p:nvPr/>
        </p:nvPicPr>
        <p:blipFill>
          <a:blip r:embed="rId1"/>
          <a:stretch/>
        </p:blipFill>
        <p:spPr>
          <a:xfrm>
            <a:off x="3124080" y="3429000"/>
            <a:ext cx="252108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1" descr=""/>
          <p:cNvPicPr/>
          <p:nvPr/>
        </p:nvPicPr>
        <p:blipFill>
          <a:blip r:embed="rId1"/>
          <a:stretch/>
        </p:blipFill>
        <p:spPr>
          <a:xfrm>
            <a:off x="3095640" y="3048120"/>
            <a:ext cx="295272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1" descr=""/>
          <p:cNvPicPr/>
          <p:nvPr/>
        </p:nvPicPr>
        <p:blipFill>
          <a:blip r:embed="rId1"/>
          <a:stretch/>
        </p:blipFill>
        <p:spPr>
          <a:xfrm>
            <a:off x="3048120" y="3352680"/>
            <a:ext cx="252396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la estatur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354040" cy="35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el pes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2971800" y="351000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la meriend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2209680" y="2895480"/>
            <a:ext cx="3159360" cy="32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aludabl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2971800" y="3276720"/>
            <a:ext cx="33526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7T21:51:06Z</dcterms:created>
  <dc:creator>NIHS</dc:creator>
  <dc:description/>
  <dc:language>en-US</dc:language>
  <cp:lastModifiedBy>Windows User</cp:lastModifiedBy>
  <dcterms:modified xsi:type="dcterms:W3CDTF">2015-03-18T13:32:01Z</dcterms:modified>
  <cp:revision>9</cp:revision>
  <dc:subject/>
  <dc:title>SP3 Chp. 3 Vocabulary A Primera Vista #1</dc:title>
</cp:coreProperties>
</file>